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8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9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0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D0E1-8CDD-4943-AFAD-C3DC282E6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DC7A-D355-4A49-8742-04C1CF52135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2595-343F-4C2A-BA63-BC2B9A0EA27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2AAF-5FF3-4983-BE03-D9D89A88C49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DF86-8E6D-40D4-BA84-8566FC39EF1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778C-AAFC-486F-895D-EB734A519C2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3942-A541-4B4C-BE23-3C2496F111B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93C8-2EEA-4767-BA03-24E3EDF209D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CCF5-D8FF-486D-B399-8999D724854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AFEF-C1D9-4A5F-9562-9090637A322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E885-1EFC-444B-8471-4E6F84073E1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7930-66DA-4F30-83A8-13B5241E3CA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BF7D-E891-4A23-93AC-9380F40F1B9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90AB-431C-4505-AA4E-E1355E72250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9428-5A86-4C2B-9480-B9F4FAE31C1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4077-E6DC-44A0-B2A1-6985A76828A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69F7-34A7-43FE-BC06-05BBE4F3A6D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7275-F44E-4EBD-8FF6-2FC1BA04AA7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698F-52D1-4708-8C93-9806CC3819E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B540-0C77-4D54-8E0E-3B552217399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F593-F9F3-48CB-B534-10F3B8F3D70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0F42-C448-4D0D-9DA8-2DD65A9263B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B4DB-4AE9-4653-A73B-59E18D688E3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0FDC-F58E-455A-A89D-09149A6D1E5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961B-8C44-4328-9ACE-5BF1452DF5F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9910-9968-4C2D-8AB0-0E8586DF509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4132-4E3B-424F-8159-F1C01F49C68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EE28-2ED4-4DF7-B29F-611EB6D36A4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056C-558F-46AC-90FD-AC76C5E7DD5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3F5E-CAA1-42AF-BFE4-330A91BCE15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4E49-FAD9-4F66-9ED3-8CB8D4CDF6B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21F1-555C-408E-A802-1A972EA0A35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27F4-EF08-4BEC-918A-20CD8886588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9365-43B6-468A-81DB-DBFF41A6DFD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4B49-F16B-4DF3-ADD4-0C85F91DC0E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204F-6571-4990-8408-EF411834B25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6285-E087-40D6-8E4C-E7FA4FAC099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C14A-422E-4829-90A7-FF6BF237A62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37D1-6CE4-4399-B65C-0332FDE2B29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A538-12E4-4DD6-9317-F534D9255A8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5B8B-7AC7-4D31-8B78-B73FB7DC1BE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BB18-FB04-4518-8F15-BCCABBD038D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F0DF-1347-4F99-9EC3-ED613CB317E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77B3-F151-495C-B778-28B7782760D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C551-589A-4911-ADD7-98483A45EBD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5403-60A5-4132-9484-9B6509FC92D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7230-9781-474C-9D63-FED1FD6B761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0A24-E2C5-411C-984D-6E19AB84A42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ED6F-BE02-477D-B40E-74D04305E68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9213-C510-4A6C-A1AF-CC2804AC8B9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AA7A-6072-4271-9B3F-2AABA94C037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383F-9131-40A9-A5D8-DF54AF06085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DA63-2467-487D-B1B3-82ABFA80434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3BA6-F497-4FD0-AC1B-E61F37BED70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E82E-3646-4EBE-B493-A1B2A97EB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2820-F786-4EDC-9839-F5ADE3CA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E790-EC6E-47B1-B29E-1BA12DFC1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80DF-37F5-46E0-9876-03E1D9F3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5807-79E7-4350-B601-DC2675DB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E714-9FF5-459E-959E-CEA580AD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9724-0A30-4156-9CC5-78591515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868B-1BE1-4972-BF9D-40CE8A06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6043-F84A-4B4A-B9F1-BA4C0920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1AB0-86F0-481A-BD8C-DF57B5DA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CDB0-CE19-4801-B14A-785D38CC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24A1-1CD2-4B9A-9C91-5283136E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C243-F11D-4629-A203-58539CA26A9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6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7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8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9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2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248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8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4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336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1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3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estfall &amp; Young Minimum p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pproach to multiple testing used in genetics more powerful than Bonferroni approaches when lots of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s obtained p-value with minimum of p-values obtained in data sets obtained by randomly allocating people in original data set into groups (bootstrapping); Repe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djusted p-value equals Number of minimum p-values &lt; observed p (Available in R &amp; SAS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 Thursday 29th November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7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0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8-11-15T14:52:54Z</dcterms:modified>
  <cp:revision>115</cp:revision>
  <dc:subject/>
  <dc:title>Aims and Objectives</dc:title>
</cp:coreProperties>
</file>